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AF7D-7580-4ECB-B3B3-943983D225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C887-64FD-4928-A290-1994D77C3F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5138-5944-459B-922F-4E7B258976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DFE-74C0-46C2-8F3E-551C0D6C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598-1189-4CC5-A60F-A2119E7E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C4D-70D0-44AA-BC80-0E556081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31C-EE33-4F28-880F-37F20EBF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7878-2D88-4843-A680-C0243E65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875D-5F6E-4116-95BF-F30A47C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0A33-E698-440C-8502-3D2EE724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2923-AB31-43D1-87FF-1F269B42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38BA-6047-438C-BE3D-0BD131B8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47F6-8E23-4AE2-87C9-465D6272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963F-B4A1-49CB-BDF4-5396CD4E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D20-4CB1-4A3C-B315-764E9A3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D5C-C7A1-4E70-893F-BEC5558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74E4-4DA6-42B8-AB05-C7D9B371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B76C-BC30-4C1E-8533-83215141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514F-04B7-49A4-8E05-C24A1BB5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68EF-979E-4D70-B539-F2B90466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08A71-4DD0-47A2-9910-F189D5F8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D1D07-E687-4204-8B34-C6EEAED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871B5-13F8-464F-BF2B-6FF75639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FD061-F56D-49B3-BBEA-658CEB3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B5A88-B7ED-422F-88D0-DEF4731D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51F-EB04-4573-8249-3658B184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AB778-DE23-4B89-AD98-7AD51393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38711-1676-49FB-8D1D-84D7767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33C1F-3397-44C5-8827-4CE0AEA1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192B5-C18E-4926-8C44-1CB9886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A620D-8F45-41FE-A169-9DDDE758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A86AF-FCA2-428C-82EC-BB8A3F79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9FF7B-B074-4F1A-9153-AF9CD68A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34CB0-9EB4-4777-B699-FCED4460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0D14-F2E1-4DA7-B5C7-13D1EE79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C0488-FCB9-43F2-BDC3-E698EF8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805-3576-431C-BD3B-0792A9A8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F4C00-76C2-418C-A442-14DEFD83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1FA82-BF4E-4614-BABA-7C171D96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7CBE-7918-4595-8B83-99728469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5BFA-7449-4DC2-95A2-7CD43894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1A00-56DC-4D64-A574-2A1BD118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A44C-6A3D-4254-8AB4-FCB49D7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A1E9-D7D8-4F60-A543-908E00F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398A1-B3DD-4C05-840E-F666AA76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8CC7-2A4C-49AD-A6A3-579A7FD1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5C3-6F37-4186-9CDE-C130EBED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956-505A-4243-9A22-BC444BC0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42F-C01C-422D-9FB6-87DFB25E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9AE-6E67-4575-825C-3CFA061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DAA-0FD0-41E7-B6A9-5DCC5F7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5789-E56B-4D04-881F-8EAE8BE1F301}" type="slidenum">
              <a:rPr b="0" lang="en-A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HHD12_bnr.jpg"/>
          <p:cNvPicPr/>
          <p:nvPr/>
        </p:nvPicPr>
        <p:blipFill>
          <a:blip r:embed="rId2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1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7" name="Rectangle 121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1" name="Rectangle 118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120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5" name="Rectangle 115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117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Rectangle 91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93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3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Hexagon 7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6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Hexagon 85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7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24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7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08DC-89DA-4355-959E-D95863488EB7}" type="slidenum">
              <a:rPr b="0" lang="en-A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1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9" name="Group 62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1" name="Rectangle 121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5" name="Rectangle 118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120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9" name="Rectangle 115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117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Rectangle 91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93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63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8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Hexagon 7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6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Hexagon 85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24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7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13C-10EF-4300-AA2D-F38E06190E4B}" type="slidenum">
              <a:rPr b="0" lang="en-A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1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3" name="Group 62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5" name="Rectangle 121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9" name="Rectangle 118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20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3" name="Rectangle 115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117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Rectangle 91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93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63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8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Hexagon 7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6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Hexagon 85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7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24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7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4400-B250-4100-AF2E-64164700896B}" type="slidenum">
              <a:rPr b="0" lang="en-A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43280" y="2060640"/>
            <a:ext cx="439272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Exploring</a:t>
            </a:r>
            <a:br>
              <a:rPr sz="4000"/>
            </a:b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human developmen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Interrelationships between health and human development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 interrelationships between health and human development can be described as a complex web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Optimal health requires optimal developmen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Optimal development requires optimal health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Interrelationships between health and human development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Optimal health is achieving the best possible health to which someone can realistically aspire, in some or all three dimensions of health (physical, social and mental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Optimal health also requires optimal physical, social, emotional and intellectual developmen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The human lifespan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An individual’s lifespan is the length of time that a person lives – from conception to deat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The human lifespan can be broken into segments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Prenatal period (conception to birth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Infancy (birth to 2 years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Childhood (2 to 12 years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Youth (12 to 18 years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Adulthood (18 years+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Dimensions of human development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uman development relates to physical, social emotional and intellectual components or 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dimension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se are known as the dimensions of human developmen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Physical developmen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Refers to changes in the complexity, structure and function of the body, including growt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For example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Change in weight and height that usually occur during the first 15 to 20 years after birt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Rapid growth at infanc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Change in body shape over lifespa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Sexual maturation at pubert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Changes in the production of hormones, for example at puberty and menopause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4c600"/>
                </a:solidFill>
                <a:latin typeface="Century Gothic"/>
              </a:rPr>
              <a:t>Gross and Fine motor skil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3e3d2d"/>
                </a:solidFill>
                <a:uFillTx/>
                <a:latin typeface="Century Gothic"/>
              </a:rPr>
              <a:t>Gross motor skills </a:t>
            </a:r>
            <a:r>
              <a:rPr b="1" lang="en-AU" sz="2400" spc="-1" strike="noStrike">
                <a:solidFill>
                  <a:srgbClr val="3e3d2d"/>
                </a:solidFill>
                <a:latin typeface="Century Gothic"/>
              </a:rPr>
              <a:t>refers to the ability to control the movement of larger muscle groups within the bod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3e3d2d"/>
                </a:solidFill>
                <a:uFillTx/>
                <a:latin typeface="Century Gothic"/>
              </a:rPr>
              <a:t>Fine motor skills </a:t>
            </a:r>
            <a:r>
              <a:rPr b="1" lang="en-AU" sz="2400" spc="-1" strike="noStrike">
                <a:solidFill>
                  <a:srgbClr val="3e3d2d"/>
                </a:solidFill>
                <a:latin typeface="Century Gothic"/>
              </a:rPr>
              <a:t>refers to the ability to control the movement of smaller muscle groups within the bod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a6300"/>
                </a:solidFill>
                <a:latin typeface="Century Gothic"/>
              </a:rPr>
              <a:t>Complete Activity 1.5 on page 1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Social developmen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Refers to changes and improvements in people’s abilities to interact with others, relate to other people and learn to live in social group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 lifelong proces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ncludes complex behaviour such as using languag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Emotional development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Refers to the capacity to recognise, express and control feelings and emotion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ncludes development of self-esteem and self-confidenc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Intellectual development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7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Refers to changes in mental skills and abiliti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ncludes the capacity to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Learn new things and understand concep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Remember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Think logicall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Be creative and imaginative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Solve problems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280" y="1026720"/>
            <a:ext cx="709596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Interrelationship between the dimensions of human development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ll of the dimensions of human development are interrelated, for exampl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Changes that occur at puberty (physical development) can have an effect on self-esteem (emotional development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Being part of a group (social development) can help a person gain new skills (intellectual development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2-15T23:14:00Z</dcterms:modified>
  <cp:revision>27</cp:revision>
  <dc:subject/>
  <dc:title>Slide 1</dc:title>
</cp:coreProperties>
</file>